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A9E44-981C-4DD2-A848-0CF6808B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D2DF9-1179-42E9-8464-3BDE3D44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E0B65-810B-4C74-B1AE-0320C4D8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5A47B-A1FA-4EEE-A425-745E008D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5F93E-A511-4B81-B797-FE92D09F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B2004-F1EB-456E-9590-62113E91C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1E719-49F2-4348-8C96-2CE68AA7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03077-131F-483A-9F3E-1688F5AA0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68527-74A3-4AA4-9694-EC621297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A3A23-0AAC-4B90-B9C6-E7E02867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62B98-2C43-4AAA-AD1A-09E274A4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6398-878D-4004-ACF4-E03EBF4BA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E2CD-E4D8-4EEF-BFAE-255EA176E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8E31-C21D-4CDF-92E7-16A86E3C0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F8D5-9B9E-4C5D-9675-22AC2E8B2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69B3-A44C-4ABE-90D2-2ED2048B9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7D6E-CE1F-4E21-9682-4C5518DD6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02CC-B774-428C-B5D2-EE690008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66EE-71EF-49B4-A996-68C4C6410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8426-CE6C-465F-AAF0-FAC3FA62A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4BDD-F563-47B6-9204-7328FE6E7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CFC2-1F90-4646-BCCE-78BAF2673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A8EF-CEB4-4C63-8CBA-2631E1208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8A560-0B48-4AF2-AA21-40EB342F8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hyperlink" Target="http://images.amazon.com/images/P/B00005U190.01.LZZZZZZZ.jpg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blog.mlive.com/pistonsinsider/2007/11/071103-kobe-bryant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59fiftycap.files.wordpress.com/2008/10/lebron-james-biography-cover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images.amazon.com/images/P/B00005U190.01.LZZZZZZZ.jpg" TargetMode="External"/><Relationship Id="rId13" Type="http://schemas.openxmlformats.org/officeDocument/2006/relationships/image" Target="../media/image2.jpeg"/><Relationship Id="rId14" Type="http://schemas.openxmlformats.org/officeDocument/2006/relationships/hyperlink" Target="http://images.amazon.com/images/P/B00005U190.01.LZZZZZZZ.jp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images.amazon.com/images/P/B00005U190.01.LZZZZZZZ.jpg" TargetMode="External"/><Relationship Id="rId17" Type="http://schemas.openxmlformats.org/officeDocument/2006/relationships/image" Target="../media/image2.jpeg"/><Relationship Id="rId18" Type="http://schemas.openxmlformats.org/officeDocument/2006/relationships/hyperlink" Target="http://blog.mlive.com/pistonsinsider/2007/11/071103-kobe-bryant.jpg" TargetMode="External"/><Relationship Id="rId19" Type="http://schemas.openxmlformats.org/officeDocument/2006/relationships/image" Target="../media/image3.jpeg"/><Relationship Id="rId20" Type="http://schemas.openxmlformats.org/officeDocument/2006/relationships/hyperlink" Target="http://blog.mlive.com/pistonsinsider/2007/11/071103-kobe-bryant.jpg" TargetMode="External"/><Relationship Id="rId21" Type="http://schemas.openxmlformats.org/officeDocument/2006/relationships/image" Target="../media/image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img2.timeinc.net/people/i/2007/specials/bachelors/date/bow_wow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1.jpeg"/><Relationship Id="rId10" Type="http://schemas.openxmlformats.org/officeDocument/2006/relationships/hyperlink" Target="http://images.google.com/imgres?imgurl=http://www.myfishtank.net/wordpress/wp-content/uploads/romeo-usc-basketball.jpg&amp;imgrefurl=http://www.myfishtank.net/usc-trojans-news/lil-romeo-is-playing-basketball-for-usc-trojans/&amp;usg=__2_oJ1jTXwSRNoH5uJYrE8HCWLAk=&amp;h=134&amp;w=154&amp;sz=11&amp;hl=en&amp;start=18&amp;um=1&amp;itbs=1&amp;tbnid=gEECA1eUwbkVbM:&amp;tbnh=84&amp;tbnw=96&amp;prev=/images%3Fq%3Dlil%2Bromeo%2Busc%2Bbasketball%26um%3D1%26hl%3Den%26safe%3Dstrict%26sa%3DN%26tbs%3Disch:1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1.jpeg"/><Relationship Id="rId8" Type="http://schemas.openxmlformats.org/officeDocument/2006/relationships/hyperlink" Target="http://blog.mlive.com/pistonsinsider/2007/11/071103-kobe-bryant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59fiftycap.files.wordpress.com/2008/10/lebron-james-biography-cover.jpg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images.amazon.com/images/P/B00005U190.01.LZZZZZZZ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hyperlink" Target="http://images.amazon.com/images/P/B00005U190.01.LZZZZZZZ.jpg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Romeo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Romeo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Rome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cuti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ing to hang with Romeo and Benvol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124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ing to meet up with Romeo and Mercut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666880" y="39625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got back with hanging with Romeo and Benvolio. We just walked around and talked about thing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4876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’t belive what Benvolio told m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562720"/>
            <a:ext cx="4495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ot home found out some crazy thing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524240" cy="38556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3855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ging with Benvolio and Mercutio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380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2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5780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4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257800"/>
            <a:ext cx="53352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6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143000" y="5257800"/>
            <a:ext cx="58104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2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81080" y="23623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2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2" descr="See full 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981080" y="46483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4" descr="See full 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981080" y="3124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5486400"/>
            <a:ext cx="609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Mercutio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ercutio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rcuti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133720" y="1554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5-8-7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2133720" y="3200400"/>
            <a:ext cx="4495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ng out with girls, complain when he don’t get what he wants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 fight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cell phone, The ladies,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’ Wayne, Drake, T.I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ajor League, sandlot, Dam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ltimate Fighter, ESPN, Taxes Range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 don’t rea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ilin’ with my  guy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 Mon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838080" y="6172200"/>
            <a:ext cx="8384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ust 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yesterday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808) 669-8778   (text it!!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480" y="1870200"/>
          <a:ext cx="1525320" cy="565200"/>
        </p:xfrm>
        <a:graphic>
          <a:graphicData uri="http://schemas.openxmlformats.org/drawingml/2006/table">
            <a:tbl>
              <a:tblPr/>
              <a:tblGrid>
                <a:gridCol w="1525320"/>
              </a:tblGrid>
              <a:tr h="56520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amers often lie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 Mab is my home girl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50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5780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" descr="http://theexactly.net/wp-content/uploads/2008/03/lilromeo_195.jpg"/>
          <p:cNvPicPr/>
          <p:nvPr/>
        </p:nvPicPr>
        <p:blipFill>
          <a:blip r:embed="rId9"/>
          <a:stretch/>
        </p:blipFill>
        <p:spPr>
          <a:xfrm>
            <a:off x="0" y="3808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0" descr="http://t2.gstatic.com/images?q=tbn:gEECA1eUwbkVbM:http://www.myfishtank.net/wordpress/wp-content/uploads/romeo-usc-basketball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280" y="6058080"/>
            <a:ext cx="68580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85800" y="1523880"/>
            <a:ext cx="58672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 what up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not much yo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nothing muc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o! you want to hang lat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idk ill see what iam do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ok just hit me 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y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33520" y="4114800"/>
            <a:ext cx="5638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380880"/>
            <a:ext cx="914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1447920" y="2057400"/>
            <a:ext cx="5867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Bad N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are not allowed in the city no more the prince said; so what are you going to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1447920" y="3505320"/>
            <a:ext cx="60958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Esc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Bad N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 with 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Benv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0" descr="http://theexactly.net/wp-content/uploads/2008/03/lilromeo_195.jpg"/>
          <p:cNvPicPr/>
          <p:nvPr/>
        </p:nvPicPr>
        <p:blipFill>
          <a:blip r:embed="rId7"/>
          <a:stretch/>
        </p:blipFill>
        <p:spPr>
          <a:xfrm>
            <a:off x="228600" y="19810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4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525780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6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280" y="35053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2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17524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8"/>
          <p:cNvSpPr/>
          <p:nvPr/>
        </p:nvSpPr>
        <p:spPr>
          <a:xfrm>
            <a:off x="2209680" y="22096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2057400" y="18288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Romeo what happen with you today! Were you at man everybody wondering were you going to stay now. P.s. write back as soon as possi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1600200" y="198108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d 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get to come back to ver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26"/>
          <p:cNvSpPr/>
          <p:nvPr/>
        </p:nvSpPr>
        <p:spPr>
          <a:xfrm>
            <a:off x="1676520" y="3886200"/>
            <a:ext cx="6400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d 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Yea I know I don’t now what i’am going to do no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53352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0" descr="http://theexactly.net/wp-content/uploads/2008/03/lilromeo_195.jpg"/>
          <p:cNvPicPr/>
          <p:nvPr/>
        </p:nvPicPr>
        <p:blipFill>
          <a:blip r:embed="rId6"/>
          <a:stretch/>
        </p:blipFill>
        <p:spPr>
          <a:xfrm>
            <a:off x="304920" y="3657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2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1905120"/>
            <a:ext cx="1143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182880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y what up man. Paris is going to get married to Juliet her dad wants her to b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0" descr="http://theexactly.net/wp-content/uploads/2008/03/lilromeo_195.jpg"/>
          <p:cNvPicPr/>
          <p:nvPr/>
        </p:nvPicPr>
        <p:blipFill>
          <a:blip r:embed="rId2"/>
          <a:stretch/>
        </p:blipFill>
        <p:spPr>
          <a:xfrm>
            <a:off x="0" y="4572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http://theexactly.net/wp-content/uploads/2008/03/lilromeo_195.jpg"/>
          <p:cNvPicPr/>
          <p:nvPr/>
        </p:nvPicPr>
        <p:blipFill>
          <a:blip r:embed="rId3"/>
          <a:stretch/>
        </p:blipFill>
        <p:spPr>
          <a:xfrm>
            <a:off x="304920" y="426708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6" descr="See full size image"/>
          <p:cNvPicPr/>
          <p:nvPr/>
        </p:nvPicPr>
        <p:blipFill>
          <a:blip r:embed="rId4"/>
          <a:stretch/>
        </p:blipFill>
        <p:spPr>
          <a:xfrm>
            <a:off x="228600" y="190512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209680" y="4648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much. And dose Juliet like Paris to or is it just because her 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82</cp:lastModifiedBy>
  <dcterms:modified xsi:type="dcterms:W3CDTF">2010-05-18T14:10:13Z</dcterms:modified>
  <cp:revision>72</cp:revision>
  <dc:subject/>
  <dc:title>Profile</dc:title>
</cp:coreProperties>
</file>